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wmf" ContentType="image/x-wmf"/>
  <Override PartName="/ppt/media/image3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01E9-86F7-47D0-AF93-8F86852F45D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5649-EC4C-40DF-8392-2D2D32D5A66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A650-1EED-4FFF-A41F-728BA0E18B3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A786-AB97-4EB8-82EC-B93F738F8FE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C9B8-E8B4-4DCA-9345-675735D3DD7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8087-447A-4F1E-A4EE-2E073B6D02C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2B9A-E7FF-4B64-8289-5885993409B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30A9-E12D-4C38-9AE9-13D49AA4B06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45A9-879E-42BA-8EED-1D1CB47C116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2C2D-B424-43D9-A91B-AA2B553A451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D714-95DA-465F-841D-8A0F77D0655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60F9-82CD-41BA-B3AC-0D1FBC2BFE2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9713-C897-4EB7-A13F-D838D32E3AD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D70C-BA04-4009-801B-144F7DC2260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109A-8081-4F44-AEBA-9D376A37F2E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D4F9-206D-48D0-9B3E-5C0AA829C65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583A-7B05-40A0-AD0B-46F1CA72FCD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4DDB-5FD3-406C-8192-42C227467C0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89B3-08E0-4B46-AF66-08021D6EF0B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58A-96B1-4B9E-B1C8-08862EDB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6EF-38AE-42CF-BAA0-41ACB3D7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79C-63DE-4B18-BAA3-0A581DD4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560-A1E2-42D6-9589-4AA04CEC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FE75-D918-4FA2-B0A7-D064E19A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0ED-91D9-4906-BCEC-437A3138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02E-7F4B-452F-AF0B-F0FA9207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C46-2DD4-4B6C-8363-75F026AC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AAF-D523-456A-8356-5BB79342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7BA-4090-4059-9965-914519B5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463-7BAD-4871-A81E-A6F2D1C2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8DF-CDAC-4951-988F-4E4D8E63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259F-B707-4038-81E6-B7419C3C8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719280" y="1341360"/>
            <a:ext cx="84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4788000" y="128412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28412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I IZMEĐ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E I RU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539640" y="2708280"/>
                <a:ext cx="8280360" cy="40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η</m:t>
                            </m:r>
                          </m:num>
                          <m:den>
                            <m:r>
                              <m:t xml:space="preserve">dξ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 Box 5"/>
          <p:cNvSpPr/>
          <p:nvPr/>
        </p:nvSpPr>
        <p:spPr>
          <a:xfrm>
            <a:off x="457200" y="121932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zajedničkoj tački baza i ruleta imaju zajedničku tangentu, tj. Nalaze se u dodi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Brzine kojom se trenutni centar pomera po jednoj i drugoj krivoj su jed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700360" y="2205000"/>
          <a:ext cx="61927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05000"/>
                    <a:ext cx="61927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2" name="Object 2"/>
          <p:cNvGraphicFramePr/>
          <p:nvPr/>
        </p:nvGraphicFramePr>
        <p:xfrm>
          <a:off x="826920" y="2249640"/>
          <a:ext cx="2448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49640"/>
                    <a:ext cx="2448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468360" y="907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tap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užin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2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reće se u ravni tako da mu kraj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lizi po krugu poluprečnik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slanja se u tačk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Odrediti bazu i ruletu štap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700360" y="3141720"/>
            <a:ext cx="14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baze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627280" y="5373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leta je k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9640" y="609300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, kretanje štapa se može zameniti kotrljanjem velikog kruga po mal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971640" y="162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 nač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12"/>
          <p:cNvGraphicFramePr/>
          <p:nvPr/>
        </p:nvGraphicFramePr>
        <p:xfrm>
          <a:off x="4284720" y="1665360"/>
          <a:ext cx="4680000" cy="42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665360"/>
                    <a:ext cx="468000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826920" y="1341360"/>
                <a:ext cx="7488360" cy="534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; 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;   {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</m:e>
                    </m:eqAr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  ;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                        ;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;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-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320364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Isto kao pre za b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90000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I nači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pomoću formul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4643280" y="5877000"/>
                <a:ext cx="4356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 uslova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Ruleta se kotrlja bez klizanja po baz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11280" y="1268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tački C koja je u tom trem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renutni centar ubrzan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NUTNI CENTAR UBRZ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119240" y="1873080"/>
          <a:ext cx="5032440" cy="46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873080"/>
                    <a:ext cx="503244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971640" y="1146240"/>
                <a:ext cx="1079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11"/>
          <p:cNvGraphicFramePr/>
          <p:nvPr/>
        </p:nvGraphicFramePr>
        <p:xfrm>
          <a:off x="6372360" y="2924280"/>
          <a:ext cx="2401920" cy="35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2924280"/>
                    <a:ext cx="24019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900000" y="1700280"/>
                <a:ext cx="3178440" cy="46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ζ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8"/>
          <p:cNvGraphicFramePr/>
          <p:nvPr/>
        </p:nvGraphicFramePr>
        <p:xfrm>
          <a:off x="3924360" y="1700280"/>
          <a:ext cx="482436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700280"/>
                    <a:ext cx="482436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762120" y="1676520"/>
                <a:ext cx="310500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I</m:t>
                        </m:r>
                      </m:e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5"/>
          <p:cNvSpPr/>
          <p:nvPr/>
        </p:nvSpPr>
        <p:spPr>
          <a:xfrm>
            <a:off x="1143000" y="5638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na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I obrće oko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143000" y="6019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nos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 obrće oko tačke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193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lativna komponenta brzina koja potiče od translatornog kretanja referentne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4427640" y="981000"/>
          <a:ext cx="40291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981000"/>
                    <a:ext cx="40291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838080" y="1371600"/>
                <a:ext cx="7543800" cy="529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n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l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s</m:t>
                                </m:r>
                              </m:sub>
                            </m:sSub>
                          </m:lim>
                        </m:limLow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44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materijalnih tačaka predstavlja skup tačaka čiji položaj ili brzine stoje u međusobnim zavisnostima. Te zavisnosti se ostvaruju pomoću v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209680"/>
          <a:ext cx="8534160" cy="4246560"/>
        </p:xfrm>
        <a:graphic>
          <a:graphicData uri="http://schemas.openxmlformats.org/drawingml/2006/table">
            <a:tbl>
              <a:tblPr/>
              <a:tblGrid>
                <a:gridCol w="1981080"/>
                <a:gridCol w="2057400"/>
                <a:gridCol w="2286000"/>
                <a:gridCol w="2209680"/>
              </a:tblGrid>
              <a:tr h="960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 IZMEĐU TAČA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koordinata tač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C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brzina tačaka koje se ne mogu integraliti po vremenu i svesti na veze između koordi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MATIČKE (NE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23"/>
          <p:cNvGraphicFramePr/>
          <p:nvPr/>
        </p:nvGraphicFramePr>
        <p:xfrm>
          <a:off x="762120" y="2895480"/>
          <a:ext cx="780408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95480"/>
                    <a:ext cx="7804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39640" y="1557360"/>
                <a:ext cx="497520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ϑ</m:t>
                    </m:r>
                    <m:r>
                      <m:t xml:space="preserve">≡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ϑ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" name="Object 10"/>
          <p:cNvGraphicFramePr/>
          <p:nvPr/>
        </p:nvGraphicFramePr>
        <p:xfrm>
          <a:off x="4932360" y="1268280"/>
          <a:ext cx="3887640" cy="35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268280"/>
                    <a:ext cx="388764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755640" y="1557360"/>
                <a:ext cx="6337440" cy="48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μ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eqAr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755640" y="2060640"/>
                <a:ext cx="4103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539640" y="155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OSTOR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11280" y="314172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MATERIJAL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755640" y="3716280"/>
                <a:ext cx="7704000" cy="21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η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2" name="Object 4"/>
          <p:cNvGraphicFramePr/>
          <p:nvPr/>
        </p:nvGraphicFramePr>
        <p:xfrm>
          <a:off x="826920" y="1405080"/>
          <a:ext cx="64818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05080"/>
                    <a:ext cx="64818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5"/>
          <p:cNvSpPr/>
          <p:nvPr/>
        </p:nvSpPr>
        <p:spPr>
          <a:xfrm>
            <a:off x="1332000" y="4149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u ravni x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32000" y="4581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normalan vektor na xy-ra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7"/>
          <p:cNvGraphicFramePr/>
          <p:nvPr/>
        </p:nvGraphicFramePr>
        <p:xfrm>
          <a:off x="395280" y="5826240"/>
          <a:ext cx="36720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826240"/>
                    <a:ext cx="36720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7"/>
          <p:cNvGraphicFramePr/>
          <p:nvPr/>
        </p:nvGraphicFramePr>
        <p:xfrm>
          <a:off x="1187280" y="3716280"/>
          <a:ext cx="316872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716280"/>
                    <a:ext cx="3168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611280" y="1341360"/>
                <a:ext cx="489564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  /  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'SB'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SB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611280" y="4797360"/>
            <a:ext cx="828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u ravni može da se predstavi kao obrtanje u ravno oko nepokretne tačke koja pripada toj ravni i zove s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centar 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orema važi i za beskonačno malo pomeranje – obrtanje oko trenutnog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5111640" y="2492280"/>
          <a:ext cx="4032360" cy="245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1640" y="2492280"/>
                    <a:ext cx="403236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6"/>
          <p:cNvGraphicFramePr/>
          <p:nvPr/>
        </p:nvGraphicFramePr>
        <p:xfrm>
          <a:off x="179280" y="5229360"/>
          <a:ext cx="29527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229360"/>
                    <a:ext cx="29527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611280" y="2205000"/>
                <a:ext cx="5040360" cy="42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/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rPr>
                            <m:lit/>
                            <m:nor/>
                          </m:rPr>
                          <m:t xml:space="preserve"> ravansko kretanje: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468360" y="1413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utni centar S ima osobinu da je              u trenutku kada je ta tačka c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916360" y="5877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"/>
              <p:cNvSpPr txBox="1"/>
              <p:nvPr/>
            </p:nvSpPr>
            <p:spPr>
              <a:xfrm>
                <a:off x="4716360" y="1341360"/>
                <a:ext cx="100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55640" y="1484280"/>
                <a:ext cx="215892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059280" y="1557360"/>
                <a:ext cx="21589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S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Text Box 6"/>
          <p:cNvSpPr/>
          <p:nvPr/>
        </p:nvSpPr>
        <p:spPr>
          <a:xfrm>
            <a:off x="539640" y="4941720"/>
            <a:ext cx="806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u ravni xy koje su predstavljale trenutne centre rotacije predstavljaju kriv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e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baz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na telu koje su bile trenutni centri brzina ja kriva na tel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ule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3357720"/>
            <a:ext cx="835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zn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položaj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2"/>
              <p:cNvSpPr txBox="1"/>
              <p:nvPr/>
            </p:nvSpPr>
            <p:spPr>
              <a:xfrm>
                <a:off x="2124000" y="3789360"/>
                <a:ext cx="598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1403280" y="4221000"/>
                <a:ext cx="339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Text Box 15"/>
          <p:cNvSpPr/>
          <p:nvPr/>
        </p:nvSpPr>
        <p:spPr>
          <a:xfrm>
            <a:off x="2627280" y="4149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mo brzine svih tačak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7"/>
          <p:cNvGraphicFramePr/>
          <p:nvPr/>
        </p:nvGraphicFramePr>
        <p:xfrm>
          <a:off x="5580000" y="907920"/>
          <a:ext cx="3024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907920"/>
                    <a:ext cx="3024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8"/>
          <p:cNvGraphicFramePr/>
          <p:nvPr/>
        </p:nvGraphicFramePr>
        <p:xfrm>
          <a:off x="5940360" y="3357720"/>
          <a:ext cx="230508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357720"/>
                    <a:ext cx="2305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I RU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250920" y="1341360"/>
                <a:ext cx="6912000" cy="467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</m:e>
                        </m:d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θ</m:t>
                                    </m:r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10"/>
          <p:cNvSpPr/>
          <p:nvPr/>
        </p:nvSpPr>
        <p:spPr>
          <a:xfrm>
            <a:off x="2743200" y="2209680"/>
            <a:ext cx="298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parametra vremena iz izraza za x i y dobijamo jednu jednačinu za x i y koja predstavlja jednačinu ba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238880" y="422100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vremena dobijamo jednu zavi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među  ξ i η  i to je jednačina ru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8"/>
          <p:cNvGraphicFramePr/>
          <p:nvPr/>
        </p:nvGraphicFramePr>
        <p:xfrm>
          <a:off x="5651640" y="1700280"/>
          <a:ext cx="32400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32400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31T20:34:34Z</dcterms:modified>
  <cp:revision>378</cp:revision>
  <dc:subject/>
  <dc:title>ТЕХНИЧКА МЕХАНИКА 2</dc:title>
</cp:coreProperties>
</file>